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AE01-E0F6-44BC-9C22-884B7301C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9D54-37DF-4E82-9B00-EE8AF616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7326-2E19-43F5-83E5-A1DC28D0D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1849-D62F-4608-8496-948308F78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2574-6CF1-407A-8EAC-21DC03693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8042-2AEC-4982-8E44-A341D1C8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1A3E-F90C-4013-A622-C9B63A74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E0AF-7DDC-4A6B-A80B-F60EB756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CBC4-307D-4E11-93CA-1CD53C36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93C7-C243-45DF-94A1-597DBEA1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496D-9805-4D8F-86EB-42FB95F2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3FD0-F316-459E-9359-F05D7C85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5A2D-2ACB-47B5-A5D7-206B02C2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DF1E-915B-4C4E-8465-B5387ACF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63BB-599A-4B9A-9793-3ECC4765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2651-A670-4CCF-939E-F43FB9485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8DB4-A409-4C9F-92D3-810D7241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4C9E-8119-463E-A4CE-2D531F88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29BB-1EA4-46C5-9B35-F1B255AB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81D1-71A8-41F9-BBC8-3F64D449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0DE0-A975-48DF-A6BF-33367628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C3B6-6D17-41B6-992A-36216D48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D0D8-8775-40D4-A6B4-93C7EC6E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362F-643D-4ACF-88AC-A89D2F1C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181C-8749-4DBE-83EB-235F19DC6F2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93D7-31D3-4508-832A-1622454F5D8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第十一章  国际金融创新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inancial Innov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一节  金融创新成因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一、西方金融创新成因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W.I.Silber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的“约束诱导型”创新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E.J.Kane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的“规避管制型”创新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制度学派的创新理论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Hicks ,Niehans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交易成本创新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其他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格林和海伍德的金融创新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格里和肖的金融创新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二、金融创新的背景与原因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0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代以来的创新浪潮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创新背景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国际经济变化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国际金融形势变化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创新的原因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过时的金融管制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国债的大量发行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资本国际化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新技术的应用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经济思想变化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二节  金融创新实践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金融管理制度创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各国政府金融管制与监督的差异性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管制与监督的演变与金融改革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以来西方国家管制与监督变化趋势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二、金融制度创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规避管制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转移风险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增强流动性、降低成本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三、金融市场创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欧洲货币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界特大金融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三节  金融创新的特征、影响及问题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金融创新的特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利率自由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机构业务全能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工具多样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市场国际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运作信息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机构大型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二、金融创新对世界金融业的影响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市场交易量巨增，市场结构不平衡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体系呈现新格局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银行战略调整，重视对外业务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银行业务电子化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三、金融创新中存在的问题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政府金融机构的问题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体系稳定性问题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政策的重新选择问题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07:17:36Z</dcterms:created>
  <dc:creator>MS User</dc:creator>
  <dc:description/>
  <dc:language>en-US</dc:language>
  <cp:lastModifiedBy>Dell</cp:lastModifiedBy>
  <dcterms:modified xsi:type="dcterms:W3CDTF">2021-08-23T22:48:37Z</dcterms:modified>
  <cp:revision>10</cp:revision>
  <dc:subject/>
  <dc:title>第六章  国际金融创新</dc:title>
</cp:coreProperties>
</file>